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BAE17-C01A-47B2-B47A-36CB54DF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71996-2B97-4CF9-8DDB-F50861EA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C028C-1B11-4E15-8DE7-448F5A5F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F800B-02E5-4E1E-8D41-EF8CDC23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5AAA-9A8D-4CC5-9242-AFA3A2BF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9925-7AD9-4000-BA19-9E2DA67A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9B13-73EE-4AEF-B4C7-0764DD5D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63EC-1A38-4B81-A562-AAD688B8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8E53-1F08-4F58-9E02-CDCA5D47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AF19-7655-4B7A-AD3A-919D73B9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6CAB-0918-4D21-94E4-270F85CB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723B9-EF75-4C52-9192-19AD4662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39EB-41EA-412B-9663-3AC1D7C1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6AA1-5EB4-42C8-9D92-798321F8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A6CA-41B5-41D6-96CE-A7380052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8892-E385-40C0-B32A-34D10C2E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CE87-C10B-41F5-98D4-CC949E64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4B0DA-2B0B-471F-B814-A2589D0F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89956-DB7F-4ACC-9687-B1EC9F3E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2B0FD-E425-4350-8393-8EA3EBFC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FE26F-7A0B-4C1A-AC07-03C4744A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D5685-FD39-4FEA-B961-218A4757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BA9C6-8E9E-4E41-AA8F-5E7BC72C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2A113-79F5-497C-8DEA-8216A0A8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25C5-59F7-4C68-B2F6-FC00E5AB4F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37AF-E7C7-431D-AF67-247DF0901A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Homophonic Cipher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a Homopho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7920" y="2123640"/>
            <a:ext cx="7932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mophonic cipher as presented has several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uld be subject to a dictionary attack since the key is just a four lett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number range (1-25, 26-50, 51-75, 76-100) could be subjected to a frequency analysis (CAP will allow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nown word or phrase could be compared to the ciphertext (CAP will run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DAF19-F79B-4E3E-98AB-1131D95E80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9000" y="4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Homophonic 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8844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P Homophonic worksheet will allow you to run a frequency breakdown of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60480" y="3070080"/>
            <a:ext cx="5456160" cy="3583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313000" y="2506680"/>
            <a:ext cx="1149480" cy="646200"/>
          </a:xfrm>
          <a:prstGeom prst="wedgeRoundRectCallout">
            <a:avLst>
              <a:gd name="adj1" fmla="val -46134"/>
              <a:gd name="adj2" fmla="val 68425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Fr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E48C2-AB22-416D-9AED-C07C87E24C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Possible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5680" y="2120760"/>
            <a:ext cx="8294760" cy="43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mophonic Possible Word window allows you to enter a known word and CAP will search for possible number matches based on three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number will not match two or more different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letter will not match two different numbers in the same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wo different letters match two different numbers in the same range, the difference between the numbers will match the difference between the two letters in their alphabetic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C4884-560B-409E-A9EB-8C6406C997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Work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ggested matches discovered in the Possible Word window can be entered into the worksheet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ing plaintext will be displayed and can be evalu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2F673-238B-492E-944A-60061DB268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5-27T00:07:55Z</dcterms:modified>
  <cp:revision>74</cp:revision>
  <dc:subject/>
  <dc:title>CAP Cryptographic Analysis Program</dc:title>
</cp:coreProperties>
</file>